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90C-8EAC-4761-A2A0-43C597EE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D35-8A47-40B6-ADFE-CD6CAF9E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51E-4E32-4F04-998F-7D46CF39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8ED-30ED-49A0-9527-A75E50F4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42E-F4C5-4C9E-9CB4-49E38FFA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04F-605C-41B0-9663-539CBCC7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ADA-3F02-42C6-B2A1-DA59CE81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77B-97E2-435A-9E0B-82AA61CE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77C-37D8-4A19-B943-EC87923E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0A1-6222-4679-A4FB-0BFB6EDF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D8D-7BC3-4834-BCDF-5CE3402F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443-084A-419E-A7D1-AB1490E9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nformationssysteme SS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3CB04AC7-16D0-497A-ACEC-7E99F2D0E9C8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"/>
            <a:ext cx="853416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Kapitel 3: Automatische Klassifikation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von Dokum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1800" y="1981080"/>
            <a:ext cx="67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1 Einfache Klassifik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2 Grundlagen aus der Wahrscheinlichkeits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3 Naive-Bayes-Klassifik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4 Feature-Sele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2ED-DDFE-4002-BF15-B8D758191B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09480"/>
            <a:ext cx="90201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eine diskrete Zufallsvariable X mit Dichtefunktion 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3520" y="1219320"/>
                <a:ext cx="19936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k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2745360" y="1143000"/>
            <a:ext cx="35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rwartungswe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14440" y="1784520"/>
                <a:ext cx="2184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M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2743560" y="175248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. Mo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o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33520" y="2438280"/>
                <a:ext cx="4267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5030640" y="236232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n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o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048120"/>
            <a:ext cx="90201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eine kontinuierliche Zufallsvariable X mit Dichtefunktion 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69800" y="3543480"/>
                <a:ext cx="2121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45360" y="3581280"/>
            <a:ext cx="35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rwartungsw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o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840" y="441972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. Mo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o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7200" y="5105520"/>
                <a:ext cx="42670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954320" y="502920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n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o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04920" y="4343400"/>
                <a:ext cx="24256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749960" y="5943600"/>
            <a:ext cx="385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artungswerte sind additiv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teilungen n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38680" y="5943600"/>
                <a:ext cx="3200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C13-9C13-4C41-B91E-9711037E0D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chtige diskrete Verteil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28600" y="2209680"/>
                <a:ext cx="3873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-9360" y="1752480"/>
            <a:ext cx="80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inomialverteilung (Münzwurf n-mal wiederholt; X: #Köpf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5400" y="2889360"/>
            <a:ext cx="43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isson-Verteilung (mit Rat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04920" y="3276720"/>
                <a:ext cx="2844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</m:t>
                        </m:r>
                      </m:sup>
                    </m:sSup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47680" y="1117440"/>
                <a:ext cx="3835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-4320" y="609480"/>
            <a:ext cx="47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eichverteilung über {1, 2, ..., m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7200" y="4044960"/>
            <a:ext cx="80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sche Verteilung (# Münzwürfe bis zum ersten Kop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77840" y="4578480"/>
                <a:ext cx="3098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9360" y="5105520"/>
            <a:ext cx="397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Poisson-Mix (mit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04920" y="5486400"/>
                <a:ext cx="52704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EEE-9BBC-444F-BB52-07CB305B60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ntinuierliche Verteil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7524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xponentialverteilung (z.B. Zeit bis zum nächsten Ereignis ei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isson-Prozesses) mit Rat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lim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# Ereignisse i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) /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04920" y="2590920"/>
                <a:ext cx="45846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ons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685800"/>
            <a:ext cx="66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eichverteilung über dem Intervall [a,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77920" y="1066680"/>
                <a:ext cx="46908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ons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3124080"/>
            <a:ext cx="66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exponential-Verteil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886200"/>
            <a:ext cx="66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eto-Verteil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4495680"/>
            <a:ext cx="66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spiel einer „Heavy-tailed“-Verteilung m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943600" y="4419720"/>
                <a:ext cx="2084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590920" y="3581280"/>
                <a:ext cx="4765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083120" y="3048120"/>
                <a:ext cx="4495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D5B-155A-4AEC-A0A4-7D4E08F9D4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malvertei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7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rmalverteilung N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 (Gauß-Verteilung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pproximiert Summen unabhängig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dentisch verteilter Zufallsvariable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562720" y="647640"/>
                <a:ext cx="29718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42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ilungsfunktion von N(0,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343400" y="3763800"/>
                <a:ext cx="314496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z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49840" y="4941720"/>
            <a:ext cx="74383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i X normalverteilt mit Erwartungswer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d Varian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n ist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verteilt mit Erwartungswert 0 und Varianz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542960" y="5398920"/>
                <a:ext cx="14590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4608720" cy="225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612-D453-4EA8-8437-E8919AC76D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ntraler Grenzwertsa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8880" y="685800"/>
            <a:ext cx="858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atz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ien X1, ..., Xn unabhängig und identisch verteilte Zufalls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Erwartungswert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Varian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Verteilungsfunktion Fn der Zufallsvariablen Zn := X1 + ... +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nvergiert gegen eine Normalverteilung N(n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Erwartungswert n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Varianz n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04920" y="3200400"/>
                <a:ext cx="5813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nμ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304920" y="4513320"/>
            <a:ext cx="65646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olla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vergiert gegen eine Normalverteilung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 Erwartungswert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d Varian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04920" y="4876920"/>
                <a:ext cx="14875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73C-BDF9-4A93-B38E-04AC094EDF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tz von Ba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8000" y="701640"/>
            <a:ext cx="728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wei Ereignisse A, B eines W.raums heißen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nabhängi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n gilt P[A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B] = P[A] P[B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8360" y="1752480"/>
            <a:ext cx="75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dingte Wahrscheinlichke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[A | B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on A unter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dingung (Hypothese) B ist definiert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791320" y="2133720"/>
                <a:ext cx="2450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72600" y="289548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atz von der totalen Wahrscheinlichke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eine Partitionierung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in Ereignisse B1, ..., Bn gi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73040" y="3692520"/>
                <a:ext cx="29844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82320" y="45720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atz von Bay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666880" y="4419720"/>
                <a:ext cx="29210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2282400" y="530712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Posteriori-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004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9B3-A7B4-45FA-BDB7-3F6EA87A76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465300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57336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989000"/>
            <a:ext cx="9144000" cy="158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484280"/>
            <a:ext cx="9144000" cy="50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549360"/>
            <a:ext cx="9144000" cy="93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986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3 Naives Bayes-Verfahren mit binären Features X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360" y="762120"/>
            <a:ext cx="129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ätz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191120" y="609480"/>
                <a:ext cx="39495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t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t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333440" y="768240"/>
                <a:ext cx="2793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t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19320" y="1536840"/>
                <a:ext cx="3327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219320" y="2133720"/>
                <a:ext cx="40766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5711400" y="2039760"/>
            <a:ext cx="350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Featureunabhängigk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zw. Linked Depend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334120" y="2743200"/>
                <a:ext cx="3809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∉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∉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219320" y="3657600"/>
                <a:ext cx="3581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Xi</m:t>
                            </m:r>
                          </m:sup>
                        </m:sSup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</m:sup>
                    </m:sSup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346000" y="3611520"/>
            <a:ext cx="3803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empirisch zu schätz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P[X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1|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]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P[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19000" y="4724280"/>
                <a:ext cx="7747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253800" y="5799240"/>
            <a:ext cx="8064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binäre Klassifikation mit Quote P[d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] / P[d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] statt P[...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itere Vereinfachung mög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A7B-E07D-4436-B2C4-2ED8EAC0B6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" dur="1" fill="hold"/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4149720"/>
            <a:ext cx="9144000" cy="244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2421000"/>
            <a:ext cx="9144000" cy="172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92280"/>
            <a:ext cx="9144000" cy="93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ives Bayes-Verfahren mit Bag-of-Words-Mo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360" y="762120"/>
            <a:ext cx="129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ätz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467000" y="762120"/>
                <a:ext cx="2527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t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]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4114800" y="762120"/>
                <a:ext cx="32767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5163840" y="1251000"/>
            <a:ext cx="3465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 Termhäufigkeitsve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8661240" y="1219320"/>
                <a:ext cx="254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295280" y="1752480"/>
                <a:ext cx="3988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5490720" y="1828800"/>
            <a:ext cx="3428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Featureunabhäng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295280" y="2514600"/>
                <a:ext cx="6172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 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5879520" y="3276720"/>
            <a:ext cx="3041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Binomialvertei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jedes Fe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0" y="4572000"/>
            <a:ext cx="10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z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295280" y="4419720"/>
                <a:ext cx="5105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5717880" y="5181480"/>
            <a:ext cx="3432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Multinomialvertei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Featurevektor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57150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23880" y="5486400"/>
                <a:ext cx="34164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851520" y="5715000"/>
                <a:ext cx="1917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ngth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511-16B1-4846-8149-44002C6489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7" dur="1" fill="hold"/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spiel für das naive Bayes-Verfahre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320" y="685800"/>
            <a:ext cx="783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 Klassen: c1 – Algebra, c2 – Analysis, c3 – Stochas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8 Terme, 6 Trainingsdokumente d1, ..., d6: je 2 in jeder K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360" y="3657600"/>
            <a:ext cx="4883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1    f2   f3    f4    f5   f6    f7    f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:     3     2     0     0     0     0     0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:     1     2     3     0     0     0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3:     0     0     0     3     3     0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4:     0     0     1     2     2     0     1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5:     0     0     0     1     1     2     2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6:     1     0     1     0     0     0     2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1360" y="1447920"/>
            <a:ext cx="34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=2/6, p2=2/6, p3=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8568800">
            <a:off x="734760" y="31352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up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8568800">
            <a:off x="1083600" y="274536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omorphis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8568800">
            <a:off x="3318480" y="3123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n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8568800">
            <a:off x="2329200" y="31258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8568800">
            <a:off x="2887920" y="31798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8568800">
            <a:off x="1734840" y="3154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8568800">
            <a:off x="3658320" y="27136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hrscheinlichk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8568800">
            <a:off x="4398480" y="3150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ürf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02400" y="2895480"/>
            <a:ext cx="340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1     k=2     k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1k     4/12     0          1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k     4/12     0   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3k     3/12     1/12     1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4k      0         5/12     1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5k      0         5/12     1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6k      0         0          2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7k      0         1/12     4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8k      1/12     0         2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8568800">
            <a:off x="6611040" y="23313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8568800">
            <a:off x="7440120" y="23835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8568800">
            <a:off x="8164800" y="23659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ochast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61F-B451-403D-B801-20EBDED056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spiel für das naive Bayes-Verfahren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80880" y="2057400"/>
                <a:ext cx="2616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124080" y="1828800"/>
                <a:ext cx="5105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303840" y="312408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r k=1 (Algeb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971800" y="2971800"/>
                <a:ext cx="2717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03840" y="4038480"/>
            <a:ext cx="25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r k=2 (Analysi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971800" y="3886200"/>
                <a:ext cx="3492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02760" y="50292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k=3 (Stochastik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971800" y="4876920"/>
                <a:ext cx="3492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362520" y="9558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assifikation von d7: ( 0 0 1 2 0 0 3 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086600" y="3200400"/>
                <a:ext cx="3430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7086600" y="5029200"/>
                <a:ext cx="1155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086600" y="4038480"/>
                <a:ext cx="1155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1138320" y="60958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sultat: Ordne d7 der Klasse C3 (Stochastik) 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9BB-1189-440F-AE02-C81936BEA9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Automatische Klassifikation von Dokum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640" y="762120"/>
            <a:ext cx="77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sation von Dokumenten in (hierarchischen) Ontolog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 möglichst geringem intellektuellem Auf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280" y="2514600"/>
            <a:ext cx="73710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i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assifikation mit Training (Supervised Lear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NN-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occhio-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ives Bayes-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pport Vector Machines (SV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assifikation ohne Training (Unsupervised Lear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ahren der Cluster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rthogonal dazu gibt es flache vs. hierarchische 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164-A602-45B7-9C84-E4F0BA856A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isches Verhalten des naiven Bayes-Verfahr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2133720"/>
            <a:ext cx="74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wende die (bzw. einen Teil der) ältesten 9603 Artik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m Trainieren des Klassifik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wende die neuesten 3299 Artikel zur Evaluation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assifikationsgenau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2840" y="762120"/>
            <a:ext cx="869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uters Benchmark (siehe trec.nist.gov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2902 kurze Artikel (Wirtschaftsnachrich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 90 Kategorien (acq, corn, earn, grain, interest, money-fx, ship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8080" y="6172200"/>
            <a:ext cx="87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Genauigkeit liegt je nach Kategorie zwischen 50 und 90 Proz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600200" y="3505320"/>
          <a:ext cx="6553080" cy="30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505320"/>
                    <a:ext cx="6553080" cy="30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6331320" y="5791320"/>
            <a:ext cx="25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Trainingsdoku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586800" y="45165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auig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1880" y="5791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1160" y="5791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6760" y="5791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92360" y="5791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72560" y="3733920"/>
            <a:ext cx="141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s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B9B-5407-4486-8FD1-07CBA2614A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esserung des naiven Bayes-Verfahr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00" y="914400"/>
            <a:ext cx="708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) geglättete Schätzung der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urh Laplace-Smoo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50920" y="1700280"/>
          <a:ext cx="244944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0280"/>
                    <a:ext cx="24494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635560" y="1628640"/>
            <a:ext cx="6516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t 0 für in den Trainingsdokumenten einer K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überhaupt nicht auftretende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695680"/>
            <a:ext cx="68770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) Anreicherung des Trainingsmaterials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benannte, automatisch klassifizierte Doku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r besseren Schätzung der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9360" y="4067280"/>
            <a:ext cx="7340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 unterschiedlicher Gewichtung der intellektuell und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isch klassifizierten „Trainingsdokument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5760" y="5257800"/>
            <a:ext cx="75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) Berücksichtigung von Abhängigkeiten zwischen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 Verallgemeinerung auf Bayessche Net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ACF-4CB2-4298-B85F-6F70A2D4F6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weiterung um Semisupervised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1480" y="838080"/>
            <a:ext cx="737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tiv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assifikator nur so gut wie seine Trainings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iningsdaten teuer wegen intellektueller Klassifik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iningsdaten sind im Featureraum nur dünnbe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wendung zusätzlicher nichtklassifizierter Daten z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pliziten Lernen von Korrel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840" y="3357720"/>
            <a:ext cx="821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assifikator für Thema „cars“ wurde auf Dokumenten trainie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„car“ enthalten, aber nicht „automobile“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den nichtklassifizierten Daten s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r“ und „automobile“ stark korrel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stdokumente enthalten „autombobile“, aber nicht „car“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A5A-8FA5-4DEF-AC0D-050808CC19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Simples Iteratives Lab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2360" y="765000"/>
            <a:ext cx="848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i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ie Menge der Dok. mit bekannten Klassen (Trainingsda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sei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ie Menge der Dok. mit unbekannten Kla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920" y="1844640"/>
            <a:ext cx="766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gorith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in classifier with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s train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lassify docs in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-train classifier with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nd the now labeled docs in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lassify docs in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il labels do not change anymore (or changes are margi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3840" y="4653000"/>
            <a:ext cx="831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Robustheits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ige wenige Dokumente aus 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n Klassifikator zu einem „Drift“ verl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sere, aber komplexere Iterationsverfahren basierend auf 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xpectation-Maximization-Verfahren für Parameterschätz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8360" y="1844640"/>
            <a:ext cx="7704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66C-DF03-4058-A1B5-DC70AF421A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3.4 Feature-Selek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838080"/>
            <a:ext cx="7925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r Entscheidung zwischen Klassen einer Stufe werden geeignete Features ausgewäh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aus Effizienzgründen und zur Vermeidung von Overfitti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6640" y="2349360"/>
            <a:ext cx="8329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rme wie „Definition“, „Theorem“, „Lemma“ sind g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skriminatoren zwischen Arts, Entertainment, Science, etc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e sind schlechte Diskriminatoren zwischen den Unterklassen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thematics wie z.B. Algebra, Stochastic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0400" y="5078520"/>
            <a:ext cx="739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rachtung statistischer bzw. informationstheoretis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ße zur Selektion geeigneter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91A-BF60-4D7B-912F-7345C3CE7F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Feature-Selektion auf der Basis der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Mutual Information (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560" y="907920"/>
            <a:ext cx="9091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utual Information (Relative Entropi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ullback-Leibler-Distan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r Entscheidung für Klasse cj wähle diejenigen binären Features Xi (Termvorkommen) mit dem größten Wert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762120" y="2133720"/>
                <a:ext cx="56260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4895280" y="5486400"/>
            <a:ext cx="4251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rechnung in Zeit O(n)+O(mk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n Trainingsdokumen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 Terme und k K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0600" y="434340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für die Entscheidung bzgl. Klassen c1, ..., 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939960" y="4876920"/>
                <a:ext cx="3771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M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762120" y="3200400"/>
                <a:ext cx="7848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∧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∧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]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]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86880" y="28195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5CB-7442-4E02-8A70-BB3F205F2C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Beispiel für Feature-Selek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-360" y="1692360"/>
            <a:ext cx="488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1    f2   f3    f4    f5   f6    f7    f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1:     1     1     0     0     0     0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2:     0     1     1     0     0     0     1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3:     1     0     1     0     0     0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4:     0     1     1     0     0     0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5:     0     0     0     1     1     1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6:     0     0     0     1     0     1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7:     0     0     0     0     1     0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8:     0     0     0     1     0     1     0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9:     0     0     0     0     0     0     1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10:   0     0     0     1     0     0     1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11:   0     0     0     1     0     1     0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12:   0     0     1     1     1     0     1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8568800">
            <a:off x="782280" y="12672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8568800">
            <a:off x="1342800" y="13244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8568800">
            <a:off x="3321000" y="11610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8568800">
            <a:off x="2310120" y="11149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8568800">
            <a:off x="2887920" y="12142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8568800">
            <a:off x="1757880" y="12369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8568800">
            <a:off x="3862080" y="1170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up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8568800">
            <a:off x="4401720" y="11880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76760" y="121932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assenba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14640" y="22860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h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488360" y="2286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30120" y="32004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93720" y="3200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629040" y="18288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91520" y="18288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315200" y="27432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53280" y="2743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41080" y="4191120"/>
            <a:ext cx="27928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sdoku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, d2, d3, d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h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5, d6, d7, 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9, d10, d11, d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2E3-6DD1-4455-97EB-A7CFDC2586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Beispielrechnung für Feature-Selektion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auf der Basis des MI-Maß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-5760" y="99072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haltung (d1-d4) vs. Mathematik (d5-d1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-1800" y="3886200"/>
            <a:ext cx="49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(d5-d8) vs. Algebra (d9-d1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040" y="15289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I(Film) = 2/12 log [2/12 / (2/12 * 1/3)] + 0 log 0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/12 log [2/12 / (2/12 * 1/3)]  + 8/12 log[8/12 / (10/12 * 2/3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-9720" y="2286000"/>
            <a:ext cx="71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I(Chart) = 3/12 log [3/12 / (4/12 * 1/3)] + 1/12 log [1/12 / (4/12 * 2/3)]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/12 log [1/12 / (8/12 * 1/3)]  + 7/12 log[7/12 / (8/12 * 2/3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-16920" y="3048120"/>
            <a:ext cx="72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I(Theorem) = 0 log 0 + 6/12 log [6/12 / (6/12 * 2/3)]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/12 log [4/12 / (6/12 * 1/3)]  + 2/12 log[2/12 / (6/12 * 2/3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14400" y="4495680"/>
            <a:ext cx="611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I(Film) = 0 log 0 + 0 log 0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/8 log [4/8 / (8/8 * 1/2)]  + 4/8 log[4/8 / (8/8 * 1/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-10440" y="5181480"/>
            <a:ext cx="67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I(Theorem) = 3/8 log [3/8 / (6/8 * 1/2)] + 3/8 log [3/8 / (6/8 * 1/2)]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/8 log [1/8 / (2/8 * 1/2)]  + 1/8 log[1/8 / (2/8 * 1/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-15840" y="5867280"/>
            <a:ext cx="634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I(Vektor) = 0 log 0 + 3/8 log [3/8 / (3/8 * 1/2)]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/8 log [4/8 / (5/8 * 1/2)]  + 1/8 log[1/8 / (5/8 * 1/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A52-19DC-4033-9B6B-5C31601020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lassifikationsproblem (Kategorisieru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3480" y="160020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geb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vek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33720" y="914400"/>
            <a:ext cx="3941640" cy="2669400"/>
            <a:chOff x="2133720" y="914400"/>
            <a:chExt cx="3941640" cy="2669400"/>
          </a:xfrm>
        </p:grpSpPr>
        <p:sp>
          <p:nvSpPr>
            <p:cNvPr id="50" name=""/>
            <p:cNvSpPr/>
            <p:nvPr/>
          </p:nvSpPr>
          <p:spPr>
            <a:xfrm>
              <a:off x="2666880" y="335268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2666880" y="99036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40120" y="31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720" y="9144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184800" y="1600200"/>
            <a:ext cx="2902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i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assenzugehörigk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n Feature-Vek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95480" y="1447920"/>
            <a:ext cx="2209680" cy="1752480"/>
            <a:chOff x="2895480" y="1447920"/>
            <a:chExt cx="2209680" cy="1752480"/>
          </a:xfrm>
        </p:grpSpPr>
        <p:grpSp>
          <p:nvGrpSpPr>
            <p:cNvPr id="56" name=""/>
            <p:cNvGrpSpPr/>
            <p:nvPr/>
          </p:nvGrpSpPr>
          <p:grpSpPr>
            <a:xfrm>
              <a:off x="2895480" y="1447920"/>
              <a:ext cx="2209680" cy="1752480"/>
              <a:chOff x="2895480" y="1447920"/>
              <a:chExt cx="2209680" cy="1752480"/>
            </a:xfrm>
          </p:grpSpPr>
          <p:sp>
            <p:nvSpPr>
              <p:cNvPr id="57" name=""/>
              <p:cNvSpPr/>
              <p:nvPr/>
            </p:nvSpPr>
            <p:spPr>
              <a:xfrm>
                <a:off x="2895480" y="1447920"/>
                <a:ext cx="15228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724280" y="2133720"/>
                <a:ext cx="15228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124080" y="1676520"/>
                <a:ext cx="15228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33560" y="2362320"/>
                <a:ext cx="1526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276360" y="2286000"/>
                <a:ext cx="15264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71800" y="2057400"/>
                <a:ext cx="152280" cy="15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800600" y="2667240"/>
                <a:ext cx="15228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52880" y="3048120"/>
                <a:ext cx="15228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19360" y="2895840"/>
                <a:ext cx="1526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038480" y="2667240"/>
                <a:ext cx="15228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504960" y="198144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379600" y="51865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684680" y="3932280"/>
            <a:ext cx="4460400" cy="2669400"/>
            <a:chOff x="4684680" y="3932280"/>
            <a:chExt cx="4460400" cy="2669400"/>
          </a:xfrm>
        </p:grpSpPr>
        <p:grpSp>
          <p:nvGrpSpPr>
            <p:cNvPr id="70" name=""/>
            <p:cNvGrpSpPr/>
            <p:nvPr/>
          </p:nvGrpSpPr>
          <p:grpSpPr>
            <a:xfrm>
              <a:off x="4684680" y="3932280"/>
              <a:ext cx="3941640" cy="2669400"/>
              <a:chOff x="4684680" y="3932280"/>
              <a:chExt cx="3941640" cy="2669400"/>
            </a:xfrm>
          </p:grpSpPr>
          <p:sp>
            <p:nvSpPr>
              <p:cNvPr id="71" name=""/>
              <p:cNvSpPr/>
              <p:nvPr/>
            </p:nvSpPr>
            <p:spPr>
              <a:xfrm>
                <a:off x="5217840" y="6370560"/>
                <a:ext cx="289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5217840" y="400824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91080" y="61419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684680" y="3932280"/>
                <a:ext cx="43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427720" y="4465800"/>
              <a:ext cx="2209680" cy="1752480"/>
              <a:chOff x="5427720" y="4465800"/>
              <a:chExt cx="2209680" cy="175248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5427720" y="4465800"/>
                <a:ext cx="2209680" cy="1752480"/>
                <a:chOff x="5427720" y="4465800"/>
                <a:chExt cx="2209680" cy="1752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427720" y="4465800"/>
                  <a:ext cx="152280" cy="152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256520" y="5151600"/>
                  <a:ext cx="152280" cy="152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656320" y="4694400"/>
                  <a:ext cx="152280" cy="152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265800" y="5380200"/>
                  <a:ext cx="152640" cy="152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808600" y="5303880"/>
                  <a:ext cx="152640" cy="152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504040" y="5075280"/>
                  <a:ext cx="152280" cy="152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32840" y="5685120"/>
                  <a:ext cx="152280" cy="152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485120" y="6066000"/>
                  <a:ext cx="152280" cy="152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951600" y="5913720"/>
                  <a:ext cx="152640" cy="152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70720" y="5685120"/>
                  <a:ext cx="152280" cy="152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6037200" y="4999320"/>
                <a:ext cx="152640" cy="15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rot="20723400">
              <a:off x="5300280" y="4137120"/>
              <a:ext cx="1201680" cy="1706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53080" y="4998960"/>
              <a:ext cx="1312920" cy="13716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06280" y="3962520"/>
              <a:ext cx="26388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A priori unbekan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Klassen: Cluste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44440" y="3938760"/>
            <a:ext cx="4137480" cy="2669400"/>
            <a:chOff x="244440" y="3938760"/>
            <a:chExt cx="4137480" cy="2669400"/>
          </a:xfrm>
        </p:grpSpPr>
        <p:grpSp>
          <p:nvGrpSpPr>
            <p:cNvPr id="92" name=""/>
            <p:cNvGrpSpPr/>
            <p:nvPr/>
          </p:nvGrpSpPr>
          <p:grpSpPr>
            <a:xfrm>
              <a:off x="244440" y="3938760"/>
              <a:ext cx="3941640" cy="2669400"/>
              <a:chOff x="244440" y="3938760"/>
              <a:chExt cx="3941640" cy="2669400"/>
            </a:xfrm>
          </p:grpSpPr>
          <p:sp>
            <p:nvSpPr>
              <p:cNvPr id="93" name=""/>
              <p:cNvSpPr/>
              <p:nvPr/>
            </p:nvSpPr>
            <p:spPr>
              <a:xfrm>
                <a:off x="777600" y="6377040"/>
                <a:ext cx="289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777600" y="4014720"/>
                <a:ext cx="0" cy="23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0840" y="6148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4440" y="3938760"/>
                <a:ext cx="43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006560" y="4548240"/>
              <a:ext cx="2286720" cy="1715760"/>
              <a:chOff x="1006560" y="4548240"/>
              <a:chExt cx="2286720" cy="171576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006560" y="4548240"/>
                <a:ext cx="153720" cy="306360"/>
                <a:chOff x="1006560" y="4548240"/>
                <a:chExt cx="153720" cy="3063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006560" y="4548240"/>
                  <a:ext cx="153720" cy="153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083240" y="4701600"/>
                  <a:ext cx="0" cy="15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006560" y="4777920"/>
                  <a:ext cx="153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1844640" y="5385960"/>
                <a:ext cx="229680" cy="268560"/>
                <a:chOff x="1844640" y="5385960"/>
                <a:chExt cx="229680" cy="2685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844640" y="5501160"/>
                  <a:ext cx="153000" cy="153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1959480" y="5385960"/>
                  <a:ext cx="11484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1234800" y="4776840"/>
                <a:ext cx="153720" cy="306360"/>
                <a:chOff x="1234800" y="4776840"/>
                <a:chExt cx="153720" cy="3063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234800" y="4776840"/>
                  <a:ext cx="153720" cy="153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311480" y="4930200"/>
                  <a:ext cx="0" cy="15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234800" y="5006520"/>
                  <a:ext cx="153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082520" y="5157720"/>
                <a:ext cx="153720" cy="306360"/>
                <a:chOff x="1082520" y="5157720"/>
                <a:chExt cx="153720" cy="3063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082520" y="5157720"/>
                  <a:ext cx="153720" cy="153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159200" y="5311080"/>
                  <a:ext cx="0" cy="15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082520" y="5387400"/>
                  <a:ext cx="153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616040" y="5081400"/>
                <a:ext cx="153360" cy="306360"/>
                <a:chOff x="1616040" y="5081400"/>
                <a:chExt cx="153360" cy="306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616040" y="5081400"/>
                  <a:ext cx="153360" cy="153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692360" y="5234760"/>
                  <a:ext cx="0" cy="15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616040" y="5311080"/>
                  <a:ext cx="15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387440" y="5386320"/>
                <a:ext cx="153360" cy="306360"/>
                <a:chOff x="1387440" y="5386320"/>
                <a:chExt cx="153360" cy="306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387440" y="5386320"/>
                  <a:ext cx="153360" cy="153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463760" y="5539680"/>
                  <a:ext cx="0" cy="15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387440" y="5616000"/>
                  <a:ext cx="15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149200" y="5767200"/>
                <a:ext cx="153720" cy="306360"/>
                <a:chOff x="2149200" y="5767200"/>
                <a:chExt cx="153720" cy="3063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149200" y="5767200"/>
                  <a:ext cx="153720" cy="153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225880" y="5920560"/>
                  <a:ext cx="0" cy="15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149200" y="5996880"/>
                  <a:ext cx="153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063600" y="5995440"/>
                <a:ext cx="229680" cy="268560"/>
                <a:chOff x="3063600" y="5995440"/>
                <a:chExt cx="229680" cy="2685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063600" y="6110640"/>
                  <a:ext cx="153360" cy="153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3178440" y="5995440"/>
                  <a:ext cx="11484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911320" y="5614560"/>
                <a:ext cx="229680" cy="268560"/>
                <a:chOff x="2911320" y="5614560"/>
                <a:chExt cx="229680" cy="2685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911320" y="5729760"/>
                  <a:ext cx="153000" cy="153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3026160" y="5614560"/>
                  <a:ext cx="11484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835000" y="5081040"/>
                <a:ext cx="229680" cy="268560"/>
                <a:chOff x="2835000" y="5081040"/>
                <a:chExt cx="229680" cy="2685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835000" y="5196240"/>
                  <a:ext cx="153360" cy="153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2949840" y="5081040"/>
                  <a:ext cx="11484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2530440" y="5919480"/>
                <a:ext cx="229680" cy="268560"/>
                <a:chOff x="2530440" y="5919480"/>
                <a:chExt cx="229680" cy="2685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2530440" y="6034680"/>
                  <a:ext cx="153000" cy="153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2645280" y="5919480"/>
                  <a:ext cx="11484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1980720" y="3962520"/>
              <a:ext cx="24012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prior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kannte Klass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Trainings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282-F6AC-4DE4-8671-2792503E1F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wendung von Klassifikationsverfahren im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1040" y="4572000"/>
            <a:ext cx="8842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assifikationsvaria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Termen, Termhäufigkeiten, Linkstruktur als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inär: Gehört ein Dokument zu einer Klasse c oder nic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stellig: In welche von k Klassen passt ein Dokument am bes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erarchisch: Iteration der Klassifikation über ontologischen B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5440" y="990720"/>
            <a:ext cx="864000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iltern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teste eintreffende Dokumente (z.B. Mail, New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b sie in eine interessante Klasse f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Übersicht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organisiere Query-/Crawler-Result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zeichnisse, Feed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Query-Expansion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ordne Query einer Klasse zu und ergä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mentsprechende Such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Relevanz-Feedback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klassifiziere Treffer und lasse Benut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levante Klassen identifizieren, um bessere Query zu gener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Query-Effizienz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beschränke (Index-)Suche auf relevante Klasse(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FE6-D11B-48A7-8AEB-EFC3CB11C4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wertung der Klassifikationsgü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8680" y="1676520"/>
            <a:ext cx="86846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binäre Klassifikation bzgl. Klasse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 = #Dok., die zu C klassifiziert wurden und zu C gehö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 = #Dok., die zu C klassifiziert wurden, aber nicht zu C gehö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 = #Dok., die nicht zu C klassifiziert wurden, aber zu C gehö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 = #Dok., die nicht zu C klassifiziert wurden und nicht zu C gehö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191120" y="3581280"/>
                <a:ext cx="151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58520" y="365760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auigkeit (acccuracy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886200" y="4343400"/>
                <a:ext cx="647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759240" y="441972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äzision (precision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924680" y="4343400"/>
                <a:ext cx="635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5255640" y="449568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beute (recall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9040" y="5410080"/>
            <a:ext cx="7108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mehrstellige Klassifikation bzgl. Klassen C1, ..., 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krodurchschnitt über k Klassen 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krodurchschnitt über k K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9760" y="762120"/>
            <a:ext cx="7898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sch durch automatische Klassifikation von Dokumen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nicht zu den Trainingsdaten gehö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436-BCC4-45B1-BA76-511A083659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1 Einfache Klassifikatore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-Nearest-Neighbor-Verfahren (kN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4440" y="914400"/>
            <a:ext cx="6598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rit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nde unter den Trainingsdokumenten aller K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k (z.B. 10-100) bzgl. der (Cosinus-) Ähnlichk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ächsten Nachbarn eines neuen Dok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4440" y="2514600"/>
            <a:ext cx="68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ritt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rdne     derjenigen Klasse Cj zu, für die die Funk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095880" y="1905120"/>
                <a:ext cx="2286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523880" y="289548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143000" y="3429000"/>
                <a:ext cx="59310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kNN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)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∗</m:t>
                        </m:r>
                        <m:r>
                          <m:t xml:space="preserve"> </m:t>
                        </m:r>
                      </m:e>
                    </m:nary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lls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84360" y="441972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al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960" y="5486400"/>
            <a:ext cx="70920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 binärer Klassifikation ordne     der Klasse C zu, f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über einem Schwellwer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0.5) lieg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48320" y="5516640"/>
                <a:ext cx="2286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5973840"/>
                <a:ext cx="1041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98C-224D-4E75-9EB0-17A91CD346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lassifikationsverfahren von Rocch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3320" y="714240"/>
            <a:ext cx="7887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rit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präsentiere die Trainingsdokumente einer Klasse C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mit tf*idf-Vektorkomponenten – durch den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rototypvekto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066680" y="1752480"/>
                <a:ext cx="55627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/>
                      <m:e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num>
                          <m:den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</m:d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∈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  <m:sup/>
                      <m:e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num>
                          <m:den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</m: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373320" y="2590920"/>
            <a:ext cx="69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 geeigneten Koeffizient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.B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6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5120" y="5029200"/>
            <a:ext cx="50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 maximiert       die Funk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92560" y="5445000"/>
                <a:ext cx="304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7" name=""/>
          <p:cNvGraphicFramePr/>
          <p:nvPr/>
        </p:nvGraphicFramePr>
        <p:xfrm>
          <a:off x="611280" y="5734080"/>
          <a:ext cx="561636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734080"/>
                    <a:ext cx="56163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76200" y="3282840"/>
            <a:ext cx="747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ritt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rdne ein neues Dokument       derjenigen Klasse Cj zu, fü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Cosinus-Ähnlichkeit                    maximal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62520" y="3657600"/>
                <a:ext cx="228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581280" y="4038480"/>
                <a:ext cx="13082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234-2365-48EF-887C-C0626BA423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2 Grundlagen aus der Wahrscheinlichkeitsrechn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000" y="1197000"/>
            <a:ext cx="81417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hrscheinlichkeitsraum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t ein Tripel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E, P)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r Meng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lementarer Ereignis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r Familie E von Teilmengen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mit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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, die 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mit abzählbar vielen Operanden abgeschlossen 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bei endlichem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ist in der Regel E=2</a:t>
            </a:r>
            <a:r>
              <a:rPr b="0" lang="de-D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m W.maß P: 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[0,1] mit P[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]=1 und P[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i] =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P[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abzählbar viele, paarweise disjunkte 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3880" y="3970440"/>
            <a:ext cx="683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genschaften von 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[A] + P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]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[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] = P[A] + P[B] – P[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]             P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658-6E94-4C39-A47C-457F1CD87A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ufalls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219320"/>
            <a:ext cx="902016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ufallsvariabl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X über einem W.raum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E, P) ist e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unktion X: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M mit M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, so daß {e | X(e)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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x}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 für alle x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M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[0,1] mit 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 = P[X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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x] heißt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Verteilungsfunkt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abzählbarer Menge M heißt 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M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[0,1] mit 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 = P[X = x]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Dichtefunkt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X, ansonsten ist 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 durch F‘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 gege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D95-4015-4661-880D-E99157F539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4T12:25:44Z</dcterms:created>
  <dc:creator>ESCOM Edition</dc:creator>
  <dc:description/>
  <dc:language>en-US</dc:language>
  <cp:lastModifiedBy>weikum</cp:lastModifiedBy>
  <dcterms:modified xsi:type="dcterms:W3CDTF">2004-04-09T19:47:02Z</dcterms:modified>
  <cp:revision>271</cp:revision>
  <dc:subject/>
  <dc:title>Kein Folientitel</dc:title>
</cp:coreProperties>
</file>